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75B-3676-49CB-8A06-38F29622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E52-06BF-4956-9292-558F8D4A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1FD-B929-46CC-A858-14177E9E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0D0-A2DC-443A-93B3-C72E5FFE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813-A2C5-46BF-91D5-896535F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9E6-5151-4F69-99B2-422BE71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E66-CD49-4CAB-8360-BE07890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DC0-C362-47E3-8306-55297D2E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E66-D00B-4A25-B440-8048BC63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700-0F82-4A09-AD10-FCE88FE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C54-4B12-4806-AE4D-0B627B6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110-F7C4-448E-952B-36BCB0E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545-41A0-44CC-AFC3-00A04F880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2120" y="1851120"/>
            <a:ext cx="8501040" cy="4673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146760" y="692280"/>
            <a:ext cx="3427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背       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2330280" y="1819440"/>
            <a:ext cx="4505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叙述了几年前父亲在南京车站送别远行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的情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刻画了一个感人至深的慈父形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出真挚深沉的父子之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抒发了作者对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切的思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对角圆角矩形 5"/>
          <p:cNvSpPr/>
          <p:nvPr/>
        </p:nvSpPr>
        <p:spPr>
          <a:xfrm>
            <a:off x="539640" y="1628640"/>
            <a:ext cx="7920000" cy="3240360"/>
          </a:xfrm>
          <a:custGeom>
            <a:avLst/>
            <a:gdLst/>
            <a:ahLst/>
            <a:rect l="l" t="t" r="r" b="b"/>
            <a:pathLst>
              <a:path w="7920880" h="3240360">
                <a:moveTo>
                  <a:pt x="540070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2700289"/>
                </a:lnTo>
                <a:cubicBezTo>
                  <a:pt x="7920880" y="2998561"/>
                  <a:pt x="7679082" y="3240359"/>
                  <a:pt x="7380810" y="3240359"/>
                </a:cubicBezTo>
                <a:lnTo>
                  <a:pt x="0" y="3240360"/>
                </a:lnTo>
                <a:lnTo>
                  <a:pt x="0" y="3240360"/>
                </a:lnTo>
                <a:lnTo>
                  <a:pt x="0" y="540070"/>
                </a:lnTo>
                <a:cubicBezTo>
                  <a:pt x="0" y="241798"/>
                  <a:pt x="241798" y="0"/>
                  <a:pt x="54007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4194000" y="3753000"/>
            <a:ext cx="40197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62" name="RJ7.eps" descr="id:2147500934;FounderCES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468360" y="2643480"/>
            <a:ext cx="820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文章既然以“背影”为题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在开头和结尾又花费那么多笔墨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是不是太“散”了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所写背影之所以能成为感情爆发的高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是由于前面的铺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突显了这一特定的背影。父亲在家庭状况“祸不单行”的背景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宁愿搁下头等重要的谋事任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要亲自去送儿子。他本已托一个“熟识的茶房”陪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再三叮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是仔细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还是怕不妥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于决定还是自己亲自去送。正是因为有了前面的铺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充分的蓄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背影的场面一出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内心蕴蓄的感情立刻爆发出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影也就成了父爱的象征。如果没有这种铺垫和蓄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不可能把这种感情淋漓尽致地表达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尾在泪光中再现背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文章又增添了一层伤感的气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恰如其分地传达出作者的内心感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思念之情格外深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且与开头相呼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力地深化了主题。最后作品以一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不知何时再能与他相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戛然而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曲终情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令人回味无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对角圆角矩形 5"/>
          <p:cNvSpPr/>
          <p:nvPr/>
        </p:nvSpPr>
        <p:spPr>
          <a:xfrm>
            <a:off x="324000" y="1557360"/>
            <a:ext cx="8424720" cy="719280"/>
          </a:xfrm>
          <a:custGeom>
            <a:avLst/>
            <a:gdLst/>
            <a:ahLst/>
            <a:rect l="l" t="t" r="r" b="b"/>
            <a:pathLst>
              <a:path w="8424936" h="720080">
                <a:moveTo>
                  <a:pt x="120015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600064"/>
                </a:lnTo>
                <a:cubicBezTo>
                  <a:pt x="8424936" y="666346"/>
                  <a:pt x="8371203" y="720079"/>
                  <a:pt x="8304921" y="720079"/>
                </a:cubicBezTo>
                <a:lnTo>
                  <a:pt x="0" y="720080"/>
                </a:lnTo>
                <a:lnTo>
                  <a:pt x="0" y="720080"/>
                </a:lnTo>
                <a:lnTo>
                  <a:pt x="0" y="120015"/>
                </a:lnTo>
                <a:cubicBezTo>
                  <a:pt x="0" y="53733"/>
                  <a:pt x="53733" y="0"/>
                  <a:pt x="12001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标注 6"/>
          <p:cNvSpPr/>
          <p:nvPr/>
        </p:nvSpPr>
        <p:spPr>
          <a:xfrm>
            <a:off x="324000" y="2492280"/>
            <a:ext cx="8424720" cy="3529080"/>
          </a:xfrm>
          <a:prstGeom prst="wedgeRoundRectCallout">
            <a:avLst>
              <a:gd name="adj1" fmla="val 314"/>
              <a:gd name="adj2" fmla="val -5501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2069280" y="1335960"/>
            <a:ext cx="518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本文是怎样突出背影的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这篇散文突出背影的写法对我们的写作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什么启示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为突出背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处作了独具匠心的布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“背影”作为题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点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了悬念。②写父亲攀爬月台的背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了手的动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脚的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个形体的动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刻画得十分精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为形象的定格。③作者又捕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另一个背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手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伫望着离去的父亲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感交集。这一次对背影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的追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含无尽的牵挂。④末段又落笔到背影上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开头呼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背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这篇散文成功的一个主要因素。由此可以得到一个启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人记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该选择最动情的一件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最动情的一件事又要突出最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的瞬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标注 5"/>
          <p:cNvSpPr/>
          <p:nvPr/>
        </p:nvSpPr>
        <p:spPr>
          <a:xfrm>
            <a:off x="539640" y="2276640"/>
            <a:ext cx="8064720" cy="3744720"/>
          </a:xfrm>
          <a:prstGeom prst="wedgeRoundRectCallout">
            <a:avLst>
              <a:gd name="adj1" fmla="val -1675"/>
              <a:gd name="adj2" fmla="val -5441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1242720" y="855720"/>
            <a:ext cx="6564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注音全都正确的一项是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拭泪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ī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行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í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赋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fù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典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ǐ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惦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g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迂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ū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栅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妥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iē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举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ù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搀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900000" y="4869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拭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ì;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质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ì;C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栅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对角圆角矩形 4"/>
          <p:cNvSpPr/>
          <p:nvPr/>
        </p:nvSpPr>
        <p:spPr>
          <a:xfrm>
            <a:off x="684360" y="4941720"/>
            <a:ext cx="7920000" cy="1224000"/>
          </a:xfrm>
          <a:custGeom>
            <a:avLst/>
            <a:gdLst/>
            <a:ahLst/>
            <a:rect l="l" t="t" r="r" b="b"/>
            <a:pathLst>
              <a:path w="7920880" h="1224136">
                <a:moveTo>
                  <a:pt x="204026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1020109"/>
                </a:lnTo>
                <a:cubicBezTo>
                  <a:pt x="7920880" y="1132789"/>
                  <a:pt x="7829534" y="1224135"/>
                  <a:pt x="7716854" y="1224135"/>
                </a:cubicBezTo>
                <a:lnTo>
                  <a:pt x="0" y="1224136"/>
                </a:lnTo>
                <a:lnTo>
                  <a:pt x="0" y="1224136"/>
                </a:lnTo>
                <a:lnTo>
                  <a:pt x="0" y="204026"/>
                </a:lnTo>
                <a:cubicBezTo>
                  <a:pt x="0" y="91346"/>
                  <a:pt x="91346" y="0"/>
                  <a:pt x="20402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8748720" y="98100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1547640" y="2781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7248600" y="162864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3924360" y="2781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0"/>
          <p:cNvSpPr/>
          <p:nvPr/>
        </p:nvSpPr>
        <p:spPr>
          <a:xfrm>
            <a:off x="6156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1"/>
          <p:cNvSpPr/>
          <p:nvPr/>
        </p:nvSpPr>
        <p:spPr>
          <a:xfrm>
            <a:off x="1476360" y="3429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2"/>
          <p:cNvSpPr/>
          <p:nvPr/>
        </p:nvSpPr>
        <p:spPr>
          <a:xfrm>
            <a:off x="421164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"/>
          <p:cNvSpPr/>
          <p:nvPr/>
        </p:nvSpPr>
        <p:spPr>
          <a:xfrm>
            <a:off x="6084720" y="3429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4"/>
          <p:cNvSpPr/>
          <p:nvPr/>
        </p:nvSpPr>
        <p:spPr>
          <a:xfrm>
            <a:off x="1835280" y="4005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5"/>
          <p:cNvSpPr/>
          <p:nvPr/>
        </p:nvSpPr>
        <p:spPr>
          <a:xfrm>
            <a:off x="6084720" y="4076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6"/>
          <p:cNvSpPr/>
          <p:nvPr/>
        </p:nvSpPr>
        <p:spPr>
          <a:xfrm>
            <a:off x="3924360" y="4005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7"/>
          <p:cNvSpPr/>
          <p:nvPr/>
        </p:nvSpPr>
        <p:spPr>
          <a:xfrm>
            <a:off x="6156360" y="4653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8"/>
          <p:cNvSpPr/>
          <p:nvPr/>
        </p:nvSpPr>
        <p:spPr>
          <a:xfrm>
            <a:off x="4140360" y="4653000"/>
            <a:ext cx="215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9"/>
          <p:cNvSpPr/>
          <p:nvPr/>
        </p:nvSpPr>
        <p:spPr>
          <a:xfrm>
            <a:off x="1835280" y="4724280"/>
            <a:ext cx="199800" cy="128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2065680" y="969120"/>
            <a:ext cx="509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项中加点的词语解释不正确的一项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年冬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祖母死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的差使也交卸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是祸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行的日子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灾祸同时发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踌躇了一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于决定还是自己送我去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犹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家变卖典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还了亏空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财产、衣物典当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抵押出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触目伤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然情不能自已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到家庭败落的境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里感到悲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684360" y="5445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祸不单行”指不幸的事接二连三地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7164360" y="105264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对角圆角矩形 5"/>
          <p:cNvSpPr/>
          <p:nvPr/>
        </p:nvSpPr>
        <p:spPr>
          <a:xfrm>
            <a:off x="250920" y="981000"/>
            <a:ext cx="8281800" cy="5184720"/>
          </a:xfrm>
          <a:custGeom>
            <a:avLst/>
            <a:gdLst/>
            <a:ahLst/>
            <a:rect l="l" t="t" r="r" b="b"/>
            <a:pathLst>
              <a:path w="8280920" h="5184576">
                <a:moveTo>
                  <a:pt x="864113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4320462"/>
                </a:lnTo>
                <a:cubicBezTo>
                  <a:pt x="8280920" y="4797698"/>
                  <a:pt x="7894043" y="5184575"/>
                  <a:pt x="7416807" y="5184575"/>
                </a:cubicBezTo>
                <a:lnTo>
                  <a:pt x="0" y="5184576"/>
                </a:lnTo>
                <a:lnTo>
                  <a:pt x="0" y="5184576"/>
                </a:lnTo>
                <a:lnTo>
                  <a:pt x="0" y="864113"/>
                </a:lnTo>
                <a:cubicBezTo>
                  <a:pt x="0" y="386877"/>
                  <a:pt x="386877" y="0"/>
                  <a:pt x="86411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1042920" y="2565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8"/>
          <p:cNvSpPr/>
          <p:nvPr/>
        </p:nvSpPr>
        <p:spPr>
          <a:xfrm>
            <a:off x="1332000" y="2565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9"/>
          <p:cNvSpPr/>
          <p:nvPr/>
        </p:nvSpPr>
        <p:spPr>
          <a:xfrm>
            <a:off x="7380360" y="206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0"/>
          <p:cNvSpPr/>
          <p:nvPr/>
        </p:nvSpPr>
        <p:spPr>
          <a:xfrm>
            <a:off x="7667640" y="206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1"/>
          <p:cNvSpPr/>
          <p:nvPr/>
        </p:nvSpPr>
        <p:spPr>
          <a:xfrm>
            <a:off x="161928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2"/>
          <p:cNvSpPr/>
          <p:nvPr/>
        </p:nvSpPr>
        <p:spPr>
          <a:xfrm>
            <a:off x="1908000" y="3141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3"/>
          <p:cNvSpPr/>
          <p:nvPr/>
        </p:nvSpPr>
        <p:spPr>
          <a:xfrm>
            <a:off x="1619280" y="4797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4"/>
          <p:cNvSpPr/>
          <p:nvPr/>
        </p:nvSpPr>
        <p:spPr>
          <a:xfrm>
            <a:off x="1908000" y="4797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5"/>
          <p:cNvSpPr/>
          <p:nvPr/>
        </p:nvSpPr>
        <p:spPr>
          <a:xfrm>
            <a:off x="2843280" y="364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6"/>
          <p:cNvSpPr/>
          <p:nvPr/>
        </p:nvSpPr>
        <p:spPr>
          <a:xfrm>
            <a:off x="2484360" y="3645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566800" y="1353240"/>
            <a:ext cx="47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《背影》的作者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著名的散文家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、学者。作品收入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还学过他的著名散文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4067280" y="1989000"/>
            <a:ext cx="12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朱自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5660280" y="263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朱自清散文全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551052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对角圆角矩形 6"/>
          <p:cNvSpPr/>
          <p:nvPr/>
        </p:nvSpPr>
        <p:spPr>
          <a:xfrm>
            <a:off x="395280" y="1197000"/>
            <a:ext cx="8497800" cy="3960720"/>
          </a:xfrm>
          <a:custGeom>
            <a:avLst/>
            <a:gdLst/>
            <a:ahLst/>
            <a:rect l="l" t="t" r="r" b="b"/>
            <a:pathLst>
              <a:path w="8496944" h="3960440">
                <a:moveTo>
                  <a:pt x="660086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300353"/>
                </a:lnTo>
                <a:cubicBezTo>
                  <a:pt x="8496944" y="3664908"/>
                  <a:pt x="8201413" y="3960439"/>
                  <a:pt x="7836858" y="3960439"/>
                </a:cubicBezTo>
                <a:lnTo>
                  <a:pt x="0" y="3960440"/>
                </a:lnTo>
                <a:lnTo>
                  <a:pt x="0" y="3960440"/>
                </a:lnTo>
                <a:lnTo>
                  <a:pt x="0" y="660086"/>
                </a:lnTo>
                <a:cubicBezTo>
                  <a:pt x="0" y="295531"/>
                  <a:pt x="295531" y="0"/>
                  <a:pt x="66008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5553000" y="4221000"/>
            <a:ext cx="32004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539640" y="1900080"/>
            <a:ext cx="835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课文内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说法正确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朱自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佩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省扬州人。著名的散文家、诗人、学者、革命家。代表作品有《背影》《春》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背影》一文中共提到“背影”三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重点描写了父亲买橘子时的“背影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背影》一文开始写“背影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最难忘的就是父亲的背影。但后面展开写家庭情况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主题没有关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第二、三自然段可以删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背影》一文集中表现了父子之间相爱相怜的真挚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539640" y="4797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革命家”的说法不正确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《背影》一文中共提到“背影”三次不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是四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第二、三自然段可以删去”的说法不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、三自然段为描写背影做了铺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对角圆角矩形 5"/>
          <p:cNvSpPr/>
          <p:nvPr/>
        </p:nvSpPr>
        <p:spPr>
          <a:xfrm>
            <a:off x="468360" y="1052640"/>
            <a:ext cx="8207280" cy="5184720"/>
          </a:xfrm>
          <a:custGeom>
            <a:avLst/>
            <a:gdLst/>
            <a:ahLst/>
            <a:rect l="l" t="t" r="r" b="b"/>
            <a:pathLst>
              <a:path w="8208912" h="5184576">
                <a:moveTo>
                  <a:pt x="864113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4320462"/>
                </a:lnTo>
                <a:cubicBezTo>
                  <a:pt x="8208912" y="4797698"/>
                  <a:pt x="7822035" y="5184575"/>
                  <a:pt x="7344799" y="5184575"/>
                </a:cubicBezTo>
                <a:lnTo>
                  <a:pt x="0" y="5184576"/>
                </a:lnTo>
                <a:lnTo>
                  <a:pt x="0" y="5184576"/>
                </a:lnTo>
                <a:lnTo>
                  <a:pt x="0" y="864113"/>
                </a:lnTo>
                <a:cubicBezTo>
                  <a:pt x="0" y="386877"/>
                  <a:pt x="386877" y="0"/>
                  <a:pt x="86411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5651640" y="1268280"/>
            <a:ext cx="5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2107800" y="847080"/>
            <a:ext cx="527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综合性学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城中学开展“朱自清读书月”活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是“朱自清与我们的学习生活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也来参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活动一】走进作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进先生的散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像在春天的百花园中漫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盛夏的夜色里独享清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仲秋的黄昏中欣赏余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隆冬的季节里领略飘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同学们推荐一篇课外读过的朱自清的作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写一句推荐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选择《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推荐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"/>
          <p:cNvSpPr/>
          <p:nvPr/>
        </p:nvSpPr>
        <p:spPr>
          <a:xfrm>
            <a:off x="539640" y="342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荷塘月色》　淡淡的月色、田田的荷叶、薄薄的轻雾、蓊蓊郁郁的树木以及树上的蝉声和水里的蛙声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素淡朦胧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简直就像一幅意境幽美的工笔画啊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672280" y="4440600"/>
            <a:ext cx="392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活动二】走近作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知道有关朱自清的哪些故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选择一个最能打动你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大家讲一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求语言简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中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超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864880" y="559008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48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重的朱自清宁可饿死也不领美国“救济粮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标注 6"/>
          <p:cNvSpPr/>
          <p:nvPr/>
        </p:nvSpPr>
        <p:spPr>
          <a:xfrm>
            <a:off x="324000" y="3429000"/>
            <a:ext cx="8569080" cy="936720"/>
          </a:xfrm>
          <a:prstGeom prst="wedgeRoundRectCallout">
            <a:avLst>
              <a:gd name="adj1" fmla="val -4273"/>
              <a:gd name="adj2" fmla="val -6212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标注 8"/>
          <p:cNvSpPr/>
          <p:nvPr/>
        </p:nvSpPr>
        <p:spPr>
          <a:xfrm>
            <a:off x="468360" y="5516640"/>
            <a:ext cx="8280360" cy="576360"/>
          </a:xfrm>
          <a:prstGeom prst="wedgeRoundRectCallout">
            <a:avLst>
              <a:gd name="adj1" fmla="val -8078"/>
              <a:gd name="adj2" fmla="val -6886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907920"/>
          <a:ext cx="8640720" cy="5689440"/>
        </p:xfrm>
        <a:graphic>
          <a:graphicData uri="http://schemas.openxmlformats.org/drawingml/2006/table">
            <a:tbl>
              <a:tblPr/>
              <a:tblGrid>
                <a:gridCol w="768240"/>
                <a:gridCol w="7872480"/>
              </a:tblGrid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语的辨析与运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　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语是一种固定词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它有固定的结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特定的含义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能随便拆开或改变说法。它往往富有深刻的思想内涵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并常带有感情色彩。这是中考试题中的常考题型之一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1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词义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望文生义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告别时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这位服装个体户一定要送我几件高档的衣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真是大方之家。【“大方之家”指见多识广、懂得大道理的人。句中误理解为“出手大方的人”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色彩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褒贬颠倒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正因为具有自命不凡的崇高理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他才在工作中取得了出色的成绩。【“自命不凡”意思是自以为很了不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平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含有贬义。用在句中形容崇高的理想不恰当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谦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词语错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明同学经常向老师请教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真是不耻下问。【“不耻下问”指不以向地位比自己低、知识比自己少的人请教为可耻。这里明显颠倒了师生之间的关系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bt6b.jpg" descr=""/>
          <p:cNvPicPr/>
          <p:nvPr/>
        </p:nvPicPr>
        <p:blipFill>
          <a:blip r:embed="rId1"/>
          <a:stretch/>
        </p:blipFill>
        <p:spPr>
          <a:xfrm>
            <a:off x="2627280" y="0"/>
            <a:ext cx="43210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152000" y="1325520"/>
            <a:ext cx="6471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簌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颓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拭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狼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举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蹒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踌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琐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奔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赋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差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妥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49080" y="206064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782160" y="206064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622620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1548360" y="27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852720" y="2781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623484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691280" y="34290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s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5"/>
          <p:cNvSpPr/>
          <p:nvPr/>
        </p:nvSpPr>
        <p:spPr>
          <a:xfrm>
            <a:off x="5735520" y="335772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óuc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1258920" y="400536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3638880" y="400536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6445800" y="40053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1552680" y="465300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3924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6156360" y="465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1626480" y="530064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u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4"/>
          <p:cNvSpPr/>
          <p:nvPr/>
        </p:nvSpPr>
        <p:spPr>
          <a:xfrm>
            <a:off x="1187280" y="2565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5"/>
          <p:cNvSpPr/>
          <p:nvPr/>
        </p:nvSpPr>
        <p:spPr>
          <a:xfrm>
            <a:off x="3059280" y="2565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6"/>
          <p:cNvSpPr/>
          <p:nvPr/>
        </p:nvSpPr>
        <p:spPr>
          <a:xfrm>
            <a:off x="5508720" y="2565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7"/>
          <p:cNvSpPr/>
          <p:nvPr/>
        </p:nvSpPr>
        <p:spPr>
          <a:xfrm>
            <a:off x="5940360" y="32130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8"/>
          <p:cNvSpPr/>
          <p:nvPr/>
        </p:nvSpPr>
        <p:spPr>
          <a:xfrm>
            <a:off x="5076720" y="386064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9"/>
          <p:cNvSpPr/>
          <p:nvPr/>
        </p:nvSpPr>
        <p:spPr>
          <a:xfrm>
            <a:off x="5435640" y="3860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0"/>
          <p:cNvSpPr/>
          <p:nvPr/>
        </p:nvSpPr>
        <p:spPr>
          <a:xfrm>
            <a:off x="900000" y="386064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1"/>
          <p:cNvSpPr/>
          <p:nvPr/>
        </p:nvSpPr>
        <p:spPr>
          <a:xfrm>
            <a:off x="1258920" y="3860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2"/>
          <p:cNvSpPr/>
          <p:nvPr/>
        </p:nvSpPr>
        <p:spPr>
          <a:xfrm>
            <a:off x="3419640" y="32130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3"/>
          <p:cNvSpPr/>
          <p:nvPr/>
        </p:nvSpPr>
        <p:spPr>
          <a:xfrm>
            <a:off x="826920" y="321300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6156360" y="45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5364000" y="515772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6"/>
          <p:cNvSpPr/>
          <p:nvPr/>
        </p:nvSpPr>
        <p:spPr>
          <a:xfrm>
            <a:off x="3276720" y="4437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7"/>
          <p:cNvSpPr/>
          <p:nvPr/>
        </p:nvSpPr>
        <p:spPr>
          <a:xfrm>
            <a:off x="1258920" y="5157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1"/>
          <p:cNvSpPr/>
          <p:nvPr/>
        </p:nvSpPr>
        <p:spPr>
          <a:xfrm>
            <a:off x="3059280" y="5157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42"/>
          <p:cNvSpPr/>
          <p:nvPr/>
        </p:nvSpPr>
        <p:spPr>
          <a:xfrm>
            <a:off x="900000" y="580536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3"/>
          <p:cNvSpPr/>
          <p:nvPr/>
        </p:nvSpPr>
        <p:spPr>
          <a:xfrm>
            <a:off x="900000" y="4508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对角圆角矩形 44"/>
          <p:cNvSpPr/>
          <p:nvPr/>
        </p:nvSpPr>
        <p:spPr>
          <a:xfrm>
            <a:off x="324000" y="1484280"/>
            <a:ext cx="8064360" cy="4392720"/>
          </a:xfrm>
          <a:custGeom>
            <a:avLst/>
            <a:gdLst/>
            <a:ahLst/>
            <a:rect l="l" t="t" r="r" b="b"/>
            <a:pathLst>
              <a:path w="8064896" h="4392488">
                <a:moveTo>
                  <a:pt x="732095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660392"/>
                </a:lnTo>
                <a:cubicBezTo>
                  <a:pt x="8064896" y="4064717"/>
                  <a:pt x="7737126" y="4392487"/>
                  <a:pt x="7332801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79280" y="981000"/>
          <a:ext cx="8640720" cy="4532400"/>
        </p:xfrm>
        <a:graphic>
          <a:graphicData uri="http://schemas.openxmlformats.org/drawingml/2006/table">
            <a:tbl>
              <a:tblPr/>
              <a:tblGrid>
                <a:gridCol w="768240"/>
                <a:gridCol w="7872480"/>
              </a:tblGrid>
              <a:tr h="4532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对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张冠李戴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舞台上这位亭亭玉立的小伙子是少数民族的歌手。【“亭亭玉立”形容少女身材修长或花木等形体挺拔。用在小伙子身上属于张冠李戴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表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重复赘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他忍俊不禁地大笑起来。【“忍俊不禁”指忍不住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与句中的“大笑起来”重复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逻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自相矛盾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络文学蓬勃发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痞子蔡就是屈指可数的网络写手之一。【“屈指可数”形容数目很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与“蓬勃发展”矛盾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意思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正反不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如果能掌握科学的学习方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就会收到事倍功半的效果。【“事倍功半”形容花费的气力大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收到的成效小。与句意相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该改为“事半功倍”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程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忌轻重失度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例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洪水冲垮了李老汉的房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村人都很难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村前村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哀鸿遍野。【“哀鸿遍野”形容在天灾人祸中到处都是呻吟呼号、流离失所的灾民的悲惨景象。语境中只是李老汉的房子被冲垮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“哀鸿遍野”夸大其词。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bt6b.jpg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43210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bt6b.jpg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4319640" cy="792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"/>
          <p:cNvSpPr/>
          <p:nvPr/>
        </p:nvSpPr>
        <p:spPr>
          <a:xfrm>
            <a:off x="2024640" y="934920"/>
            <a:ext cx="560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河北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子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点的成语使用不正确的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北柏乡汉牡丹园栽培的牡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类繁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优良。每至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园内的牡丹竞相绽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彩缤纷的景象美不胜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性格温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人诚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止文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言语动听。虽然是初次接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我对她的好感油然而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月的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娃娃的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变就变。刚才还是晴空万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阴云密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竟然下起了冰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气的变化真是扑朔迷离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的荧幕和银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不缺少令人眼花缭乱的离奇情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恰恰是能够关照自我的活生生的生命个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772280" y="1628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6"/>
          <p:cNvSpPr/>
          <p:nvPr/>
        </p:nvSpPr>
        <p:spPr>
          <a:xfrm>
            <a:off x="594036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8"/>
          <p:cNvSpPr/>
          <p:nvPr/>
        </p:nvSpPr>
        <p:spPr>
          <a:xfrm>
            <a:off x="6300720" y="3141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9"/>
          <p:cNvSpPr/>
          <p:nvPr/>
        </p:nvSpPr>
        <p:spPr>
          <a:xfrm>
            <a:off x="665964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0"/>
          <p:cNvSpPr/>
          <p:nvPr/>
        </p:nvSpPr>
        <p:spPr>
          <a:xfrm>
            <a:off x="6948360" y="314172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1"/>
          <p:cNvSpPr/>
          <p:nvPr/>
        </p:nvSpPr>
        <p:spPr>
          <a:xfrm>
            <a:off x="3132000" y="422100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2"/>
          <p:cNvSpPr/>
          <p:nvPr/>
        </p:nvSpPr>
        <p:spPr>
          <a:xfrm>
            <a:off x="2843280" y="42210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3"/>
          <p:cNvSpPr/>
          <p:nvPr/>
        </p:nvSpPr>
        <p:spPr>
          <a:xfrm>
            <a:off x="3708360" y="422100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14"/>
          <p:cNvSpPr/>
          <p:nvPr/>
        </p:nvSpPr>
        <p:spPr>
          <a:xfrm>
            <a:off x="3419640" y="422100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7164360" y="530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16"/>
          <p:cNvSpPr/>
          <p:nvPr/>
        </p:nvSpPr>
        <p:spPr>
          <a:xfrm>
            <a:off x="6300720" y="5300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7"/>
          <p:cNvSpPr/>
          <p:nvPr/>
        </p:nvSpPr>
        <p:spPr>
          <a:xfrm>
            <a:off x="6588000" y="5300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8"/>
          <p:cNvSpPr/>
          <p:nvPr/>
        </p:nvSpPr>
        <p:spPr>
          <a:xfrm>
            <a:off x="6875640" y="530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9"/>
          <p:cNvSpPr/>
          <p:nvPr/>
        </p:nvSpPr>
        <p:spPr>
          <a:xfrm>
            <a:off x="5292720" y="580536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20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21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2"/>
          <p:cNvSpPr/>
          <p:nvPr/>
        </p:nvSpPr>
        <p:spPr>
          <a:xfrm>
            <a:off x="6012000" y="580536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bt6b.jpg" descr=""/>
          <p:cNvPicPr/>
          <p:nvPr/>
        </p:nvPicPr>
        <p:blipFill>
          <a:blip r:embed="rId1"/>
          <a:stretch/>
        </p:blipFill>
        <p:spPr>
          <a:xfrm>
            <a:off x="1474920" y="189000"/>
            <a:ext cx="432108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2089800" y="1535040"/>
            <a:ext cx="52610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此题考查对成语的理解和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扑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扑腾的意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意指把兔子耳朵提起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雄兔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雌兔眯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在地上跑的时候就雌雄难辨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形容事物错综复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容易看清真相。该词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用来形容天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用错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对角圆角矩形 3"/>
          <p:cNvSpPr/>
          <p:nvPr/>
        </p:nvSpPr>
        <p:spPr>
          <a:xfrm>
            <a:off x="611280" y="1341360"/>
            <a:ext cx="8137440" cy="3816360"/>
          </a:xfrm>
          <a:custGeom>
            <a:avLst/>
            <a:gdLst/>
            <a:ahLst/>
            <a:rect l="l" t="t" r="r" b="b"/>
            <a:pathLst>
              <a:path w="8136904" h="3816424">
                <a:moveTo>
                  <a:pt x="636083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180340"/>
                </a:lnTo>
                <a:cubicBezTo>
                  <a:pt x="8136904" y="3531639"/>
                  <a:pt x="7852120" y="3816423"/>
                  <a:pt x="7500821" y="3816423"/>
                </a:cubicBezTo>
                <a:lnTo>
                  <a:pt x="0" y="3816424"/>
                </a:lnTo>
                <a:lnTo>
                  <a:pt x="0" y="3816424"/>
                </a:lnTo>
                <a:lnTo>
                  <a:pt x="0" y="636083"/>
                </a:lnTo>
                <a:cubicBezTo>
                  <a:pt x="0" y="284784"/>
                  <a:pt x="284784" y="0"/>
                  <a:pt x="63608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bt45.jpg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340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1874520" y="1290960"/>
            <a:ext cx="581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荆门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句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点成语使用恰当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外网文章指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今有的领导干部喜欢到处卖弄笔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胸无城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人联想起鲁迅笔下那些不学无术、附庸风雅的“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留学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读书汇报会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山同学旁征博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断章取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赢得了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一致好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喜欢收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买了不少关于古玩鉴定的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各地去按图索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收回来的东西多而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楼市表现来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个品牌房企心领神会的降价方式可以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称作“多形态营销”手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不可否认的是绝大部分房企实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都在“以价换量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8325000" y="1341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bt6b.jpg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4319640" cy="792000"/>
          </a:xfrm>
          <a:prstGeom prst="rect">
            <a:avLst/>
          </a:prstGeom>
          <a:ln w="0">
            <a:noFill/>
          </a:ln>
        </p:spPr>
      </p:pic>
      <p:sp>
        <p:nvSpPr>
          <p:cNvPr id="258" name="矩形 2"/>
          <p:cNvSpPr/>
          <p:nvPr/>
        </p:nvSpPr>
        <p:spPr>
          <a:xfrm>
            <a:off x="68436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项中“胸无城府”形容待人接物坦率真诚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心口如一。应为“胸无点墨”。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项中“断章取义”是贬义词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应为“引经据典”。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项中“心领神会”是褒义词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应为“心照不宣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bt46.jpg" descr=""/>
          <p:cNvPicPr/>
          <p:nvPr/>
        </p:nvPicPr>
        <p:blipFill>
          <a:blip r:embed="rId2"/>
          <a:stretch/>
        </p:blipFill>
        <p:spPr>
          <a:xfrm>
            <a:off x="6372360" y="331920"/>
            <a:ext cx="24476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对角圆角矩形 4"/>
          <p:cNvSpPr/>
          <p:nvPr/>
        </p:nvSpPr>
        <p:spPr>
          <a:xfrm>
            <a:off x="611280" y="1413000"/>
            <a:ext cx="8281800" cy="3671640"/>
          </a:xfrm>
          <a:custGeom>
            <a:avLst/>
            <a:gdLst/>
            <a:ahLst/>
            <a:rect l="l" t="t" r="r" b="b"/>
            <a:pathLst>
              <a:path w="8280920" h="3672408">
                <a:moveTo>
                  <a:pt x="612080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060327"/>
                </a:lnTo>
                <a:cubicBezTo>
                  <a:pt x="8280920" y="3398369"/>
                  <a:pt x="8006882" y="3672407"/>
                  <a:pt x="7668840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81684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829800" y="270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4716360" y="2781360"/>
            <a:ext cx="15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829800" y="43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5006520" y="429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871280" y="2205000"/>
            <a:ext cx="19958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弱不禁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禁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687280" y="2205000"/>
            <a:ext cx="2431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敬如宾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穷形尽相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1893240" y="4005360"/>
            <a:ext cx="2314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ī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应有尽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ì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一呼百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5836680" y="3860640"/>
            <a:ext cx="178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ē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奔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è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投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左大括号 15"/>
          <p:cNvSpPr/>
          <p:nvPr/>
        </p:nvSpPr>
        <p:spPr>
          <a:xfrm>
            <a:off x="1332000" y="2492280"/>
            <a:ext cx="71280" cy="8654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5440"/>
              <a:gd name="textAreaBottom" fmla="*/ 86364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左大括号 16"/>
          <p:cNvSpPr/>
          <p:nvPr/>
        </p:nvSpPr>
        <p:spPr>
          <a:xfrm>
            <a:off x="5364000" y="2492280"/>
            <a:ext cx="71640" cy="86544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865440"/>
              <a:gd name="textAreaBottom" fmla="*/ 86364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17"/>
          <p:cNvSpPr/>
          <p:nvPr/>
        </p:nvSpPr>
        <p:spPr>
          <a:xfrm>
            <a:off x="1403280" y="429264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865080"/>
              <a:gd name="textAreaBottom" fmla="*/ 8632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8"/>
          <p:cNvSpPr/>
          <p:nvPr/>
        </p:nvSpPr>
        <p:spPr>
          <a:xfrm>
            <a:off x="5435640" y="414972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对角圆角矩形 19"/>
          <p:cNvSpPr/>
          <p:nvPr/>
        </p:nvSpPr>
        <p:spPr>
          <a:xfrm>
            <a:off x="395280" y="1484280"/>
            <a:ext cx="8064360" cy="4248360"/>
          </a:xfrm>
          <a:custGeom>
            <a:avLst/>
            <a:gdLst/>
            <a:ahLst/>
            <a:rect l="l" t="t" r="r" b="b"/>
            <a:pathLst>
              <a:path w="8064896" h="4248472">
                <a:moveTo>
                  <a:pt x="708092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540379"/>
                </a:lnTo>
                <a:cubicBezTo>
                  <a:pt x="8064896" y="3931447"/>
                  <a:pt x="7747872" y="4248471"/>
                  <a:pt x="7356804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96120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313280" y="2205000"/>
            <a:ext cx="1850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簌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天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982760" y="1557360"/>
            <a:ext cx="24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搀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n(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搀扶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馋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n(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眼馋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1468440" y="3860640"/>
            <a:ext cx="1942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卸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交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防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5260680" y="3284640"/>
            <a:ext cx="2068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袍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棉袍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炮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炮火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庖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庖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大括号 11"/>
          <p:cNvSpPr/>
          <p:nvPr/>
        </p:nvSpPr>
        <p:spPr>
          <a:xfrm>
            <a:off x="971640" y="2492280"/>
            <a:ext cx="71280" cy="8654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5440"/>
              <a:gd name="textAreaBottom" fmla="*/ 86364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12"/>
          <p:cNvSpPr/>
          <p:nvPr/>
        </p:nvSpPr>
        <p:spPr>
          <a:xfrm>
            <a:off x="1116000" y="414972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13"/>
          <p:cNvSpPr/>
          <p:nvPr/>
        </p:nvSpPr>
        <p:spPr>
          <a:xfrm>
            <a:off x="4643280" y="206064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863640"/>
              <a:gd name="textAreaBottom" fmla="*/ 8582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4"/>
          <p:cNvSpPr/>
          <p:nvPr/>
        </p:nvSpPr>
        <p:spPr>
          <a:xfrm>
            <a:off x="4788000" y="3645000"/>
            <a:ext cx="288720" cy="1944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944720"/>
              <a:gd name="textAreaBottom" fmla="*/ 1937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对角圆角矩形 15"/>
          <p:cNvSpPr/>
          <p:nvPr/>
        </p:nvSpPr>
        <p:spPr>
          <a:xfrm>
            <a:off x="539640" y="1484280"/>
            <a:ext cx="7704360" cy="4608720"/>
          </a:xfrm>
          <a:custGeom>
            <a:avLst/>
            <a:gdLst/>
            <a:ahLst/>
            <a:rect l="l" t="t" r="r" b="b"/>
            <a:pathLst>
              <a:path w="7704856" h="4608512">
                <a:moveTo>
                  <a:pt x="768100" y="0"/>
                </a:moveTo>
                <a:lnTo>
                  <a:pt x="7704856" y="0"/>
                </a:lnTo>
                <a:lnTo>
                  <a:pt x="7704856" y="0"/>
                </a:lnTo>
                <a:lnTo>
                  <a:pt x="7704856" y="3840411"/>
                </a:lnTo>
                <a:cubicBezTo>
                  <a:pt x="7704856" y="4264621"/>
                  <a:pt x="7360966" y="4608511"/>
                  <a:pt x="6936756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611280" y="1220400"/>
            <a:ext cx="238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差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赋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蹒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触目伤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祸不单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狼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惨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1547640" y="19162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旧社会在机关里做事叫“当差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指职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547640" y="249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财产、衣物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当、抵押出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2388240" y="2997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失业在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1547640" y="3500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因为腿脚不灵便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走路缓慢摇摆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2050920" y="40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家庭败落的情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里感到悲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4362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幸的事接连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2705760" y="522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乱七八糟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196000" y="5732640"/>
            <a:ext cx="12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凄惨暗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景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对角圆角矩形 15"/>
          <p:cNvSpPr/>
          <p:nvPr/>
        </p:nvSpPr>
        <p:spPr>
          <a:xfrm>
            <a:off x="250920" y="1341360"/>
            <a:ext cx="8497800" cy="4824360"/>
          </a:xfrm>
          <a:custGeom>
            <a:avLst/>
            <a:gdLst/>
            <a:ahLst/>
            <a:rect l="l" t="t" r="r" b="b"/>
            <a:pathLst>
              <a:path w="8496944" h="4824536">
                <a:moveTo>
                  <a:pt x="804105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4020430"/>
                </a:lnTo>
                <a:cubicBezTo>
                  <a:pt x="8496944" y="4464525"/>
                  <a:pt x="8136934" y="4824535"/>
                  <a:pt x="7692839" y="4824535"/>
                </a:cubicBezTo>
                <a:lnTo>
                  <a:pt x="0" y="4824536"/>
                </a:lnTo>
                <a:lnTo>
                  <a:pt x="0" y="4824536"/>
                </a:lnTo>
                <a:lnTo>
                  <a:pt x="0" y="804105"/>
                </a:lnTo>
                <a:cubicBezTo>
                  <a:pt x="0" y="360010"/>
                  <a:pt x="360010" y="0"/>
                  <a:pt x="80410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115640" y="1602000"/>
            <a:ext cx="1072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勾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郁于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琐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颓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踌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自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1692360" y="177336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短时间停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2841120" y="2349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感情积聚在心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2329560" y="285264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境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状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2152440" y="34290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小而繁多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2460600" y="393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衰颓败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235960" y="4437000"/>
            <a:ext cx="18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犹豫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拿不定主意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2268360" y="508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己不能控制自己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对角圆角矩形 14"/>
          <p:cNvSpPr/>
          <p:nvPr/>
        </p:nvSpPr>
        <p:spPr>
          <a:xfrm>
            <a:off x="324000" y="1484280"/>
            <a:ext cx="8351640" cy="4321080"/>
          </a:xfrm>
          <a:custGeom>
            <a:avLst/>
            <a:gdLst/>
            <a:ahLst/>
            <a:rect l="l" t="t" r="r" b="b"/>
            <a:pathLst>
              <a:path w="8352928" h="4320480">
                <a:moveTo>
                  <a:pt x="720094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600385"/>
                </a:lnTo>
                <a:cubicBezTo>
                  <a:pt x="8352928" y="3998082"/>
                  <a:pt x="8030531" y="4320479"/>
                  <a:pt x="7632834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1662480" y="1472400"/>
            <a:ext cx="59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朱自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898—1948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名朱自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佩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秋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扬州市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现代著名的散文家、学者、诗人、民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士。毛泽东曾赞扬过朱自清的骨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他“一身重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饿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领美国‘救济粮’”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开始发表诗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一本散文集《背影》出版。其散文以朴素缜密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隽沉郁、语言洗练、文笔清丽著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富有真情实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诗文集《踪迹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文集《背影》《欧游杂记》。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作有《春》《荷塘月色》《匆匆》《绿》《背影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对角圆角矩形 5"/>
          <p:cNvSpPr/>
          <p:nvPr/>
        </p:nvSpPr>
        <p:spPr>
          <a:xfrm>
            <a:off x="250920" y="1484280"/>
            <a:ext cx="8353440" cy="4537080"/>
          </a:xfrm>
          <a:custGeom>
            <a:avLst/>
            <a:gdLst/>
            <a:ahLst/>
            <a:rect l="l" t="t" r="r" b="b"/>
            <a:pathLst>
              <a:path w="8352928" h="4536504">
                <a:moveTo>
                  <a:pt x="756099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780404"/>
                </a:lnTo>
                <a:cubicBezTo>
                  <a:pt x="8352928" y="4197986"/>
                  <a:pt x="8014411" y="4536503"/>
                  <a:pt x="7596829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2256840" y="1819440"/>
            <a:ext cx="4609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“背影”既是课文的线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是课文记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内容。以“背影”为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表明对父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影印象之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是为抒写父爱找到一个巧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入点。题目简洁概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观醒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对角圆角矩形 5"/>
          <p:cNvSpPr/>
          <p:nvPr/>
        </p:nvSpPr>
        <p:spPr>
          <a:xfrm>
            <a:off x="324000" y="1773360"/>
            <a:ext cx="8351640" cy="3240000"/>
          </a:xfrm>
          <a:custGeom>
            <a:avLst/>
            <a:gdLst/>
            <a:ahLst/>
            <a:rect l="l" t="t" r="r" b="b"/>
            <a:pathLst>
              <a:path w="8352928" h="3240360">
                <a:moveTo>
                  <a:pt x="540070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2700289"/>
                </a:lnTo>
                <a:cubicBezTo>
                  <a:pt x="8352928" y="2998561"/>
                  <a:pt x="8111130" y="3240359"/>
                  <a:pt x="7812858" y="3240359"/>
                </a:cubicBezTo>
                <a:lnTo>
                  <a:pt x="0" y="3240360"/>
                </a:lnTo>
                <a:lnTo>
                  <a:pt x="0" y="3240360"/>
                </a:lnTo>
                <a:lnTo>
                  <a:pt x="0" y="540070"/>
                </a:lnTo>
                <a:cubicBezTo>
                  <a:pt x="0" y="241798"/>
                  <a:pt x="241798" y="0"/>
                  <a:pt x="54007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6515280" y="3895560"/>
            <a:ext cx="2050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矩形 4"/>
          <p:cNvSpPr/>
          <p:nvPr/>
        </p:nvSpPr>
        <p:spPr>
          <a:xfrm>
            <a:off x="684360" y="1484280"/>
            <a:ext cx="81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背影》写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时作者在清华大学任教。本文是作者追忆八年前的往事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祖母去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原任徐州烟酒公卖局局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解职。文中的“祸不单行”正是指这两件事。作者当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北大哲学系读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知祖母去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北京赶到徐州与父亲一道回扬州奔丧。丧事完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到南京找工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回北京念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子在浦口车站惜别。就在这一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朱自清看到父亲为自己艰难买橘子的过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别是“背影”的映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杂的情感都在“泪水”中表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对角圆角矩形 5"/>
          <p:cNvSpPr/>
          <p:nvPr/>
        </p:nvSpPr>
        <p:spPr>
          <a:xfrm>
            <a:off x="611280" y="1484280"/>
            <a:ext cx="8208720" cy="4321080"/>
          </a:xfrm>
          <a:custGeom>
            <a:avLst/>
            <a:gdLst/>
            <a:ahLst/>
            <a:rect l="l" t="t" r="r" b="b"/>
            <a:pathLst>
              <a:path w="8208912" h="4320480">
                <a:moveTo>
                  <a:pt x="720094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600385"/>
                </a:lnTo>
                <a:cubicBezTo>
                  <a:pt x="8208912" y="3998082"/>
                  <a:pt x="7886515" y="4320479"/>
                  <a:pt x="7488818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